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7BF7-7C9A-400D-B309-0EDB32F1FFC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6304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5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definition and purpose of narrative research and describe the narrativ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narrative research techniques, including restorying; oral history; examination of photographs, memory boxes, and other artifacts; storytelling; letter writing; and autobiographical and biographical 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initial narrative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have been the participant’s experiences in starting this teaching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has surprised the particip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the researcher’s r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seek IRB approval and would obtain all permi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data collection methods, paying particular attention to interviewing, and collect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conduct interviews and would like to observe our participant’s classroom.  We would also likely examine other classroom artifa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e with the research participant to construct the narrative and to validate the accuracy of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ould work with our participant in restorying and assure the written account is accu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the narrative accou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swell (1995) suggests that the numerous types of narrative research can be categorized based upon several characterist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authored the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the narr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provides the 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/conceptual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ther the elements are included in one narr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types of narrative research 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biograp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narr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his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inter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ocus on the experiences of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cern with the chronology of individuals’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ocus on the construction of life stories based on data collected through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ying as a teachnique for constructing the narrative accou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sion of context and place in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aborative approach that involves the researcher and the participants in the negotiation of the final 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arrative constructed around the question, “And then what happened?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uses multiple data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field notes on shared research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journal entries and letter wr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narrative research include documents and artifacts (e.g., lesson pla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requires triangulation of data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orying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nducts the interview and transcribes the audiota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transcribes the data based upon key elements that are identified in the 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organizes the story into a chronological sequence with attention to setting, characters, actions, problems, and resolu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invites the participant to collaborate on the final narr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al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are oral histo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d or open-ended inter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sk participant to create timeline (chronic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sk participant to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graphs, memory boxes and other arti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are artifacts (e.g., newpapers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is the study of how different humans experience the world around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collect data about people’s lives and collaboratively construct a narrative about the experiences and meanings they contribute to the experi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has often been conducted in numerous disciplines (e.g., history, anthropolog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Data Collec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yt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tell frequent stories that are used as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between the participant and the researcher is docu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-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biographical and biographical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construct or collaboratively construct the wri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riting The Narr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step in narrat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ed collaboratively with the particip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ity of voice continues to be critical element of a narrative during the writ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research in education has been influenced by several fa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in teacher reflection and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on teacher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creased emphasis on empowering teac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analysis (Current fo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llects descriptions of events through interviews and observations and synthesizes them into narratives or stor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y is the outcome of the stud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 collects stories as data and seeks to understand underlying themes from the sto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 process is highly personal and requires care and sensitiv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er must be careful with ethical guidelines as narrative research requires a very close relationship between the researcher and the particip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lationship between the narrative researcher and the participant needs to be mutually constructed and should include an equality of vo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ity of voice is required so that the participant feels empowered to tell the s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rrative researcher must determine if she has adequate time and the necessary personal characteristics to conduct this form of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sider the experiences of a first- year teacher in a failing urban school district as an example to think through aspects of the narrative research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purpose of the research study and a phenomenon to expl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 the purpose is to explore the experiences and tell the story of a first year teacher in a failing urban school distri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 individual who can help you learn about the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example the individual we select would be a first year teacher in an urban district.  We would attend carefully to the participants’ characteristics and our own characteristics to select an informant who could best collaborate on this s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24:47Z</dcterms:modified>
  <cp:revision>78</cp:revision>
  <dc:subject/>
  <dc:title>AutoCAD Architecture 2008: Part I: Getting Started</dc:title>
</cp:coreProperties>
</file>